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0D58A-6535-4BFE-B8E0-45DBD5C9924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7597C-A945-4B46-95BA-E19961B0B5F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C660-EAA7-45B2-89EE-5B85DBBC5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2070-6727-4E99-A002-ED791412B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F6CD-4372-4B62-A81E-73D0FB0BC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4203-8A38-4A04-8B50-CB93255B5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4127-8191-46C4-B5B6-9DCA3C11C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275A-0A9F-4676-A0B4-6AF4F5A79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C670-DB07-48F6-B2A2-96B47505A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274B-652F-47D2-AED3-17BFEB3A0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00C5-9845-4C45-84BE-10B2AB84B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9F56-D386-4048-AA2C-0C71FE9A3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5AAA-5B76-4A1F-AC98-AB07BC76E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B8ED-EDC3-4AE1-8612-A7D4CBF3A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B5052-8B9D-4514-A064-22948816AC6A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2481120"/>
          <a:ext cx="6205680" cy="124164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714600"/>
                <a:gridCol w="718920"/>
                <a:gridCol w="1297080"/>
                <a:gridCol w="54936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428796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5359320"/>
          <a:ext cx="6215040" cy="20131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36612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37180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57120" y="7034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5801760" y="3571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746800" y="2142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76280" y="343548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500040" y="58579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286080" y="68644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00040" y="685800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9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4:13Z</dcterms:modified>
  <cp:revision>143</cp:revision>
  <dc:subject/>
  <dc:title>슬라이드 1</dc:title>
</cp:coreProperties>
</file>