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1BD7-F883-4461-A59E-15BF5CB99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7DA5-16E8-4DB6-9C43-231F1D3C2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232CE35-A2D9-46B0-A26E-9FECCBA6E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83523B2-FB4B-4F3E-96A8-780FF0A22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6FE66FE-FD3A-4F1F-A01E-5820C3ED2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6BC9136-9C26-4C77-A35C-3FE532306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9B74BED-A4E8-4045-AD06-2E969F05A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65047B7-06E1-4E8D-9EEE-CCDA85BE6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0E5BB57-718D-45EF-9816-33C4575E8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E11E500-EB80-445E-A6C9-C97330D60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F12C1B6-1B67-4106-9403-D7F3E9D5E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25D7-8E64-4C13-AC65-979D83EC8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517E-D89A-4B9B-8B59-2514E7D8E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D36597-539B-4472-A6B0-AE55D4080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607F73-CD73-477A-A88C-CC612F261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09414C-BDEF-40EE-8FA7-DF8C69B3D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1688BB-F9D8-4F30-AF52-F44CFFF70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0E39C9-5FFF-4668-976A-AB9CEB4F9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938DC4-86B4-4060-AE2D-5F194A852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0E17FC-1F62-40F0-9BE2-93D4B85CC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845B-58C6-4338-91B8-A30935BB0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DA3C9E-84EA-4C23-8991-E1A444383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5B4753-EC5B-4FAC-BF77-437759B3A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220457-E3D0-4A16-8B5D-046DBB969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FB3E4B-C50E-4538-A285-454DC7675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2F4A57-854E-4D5A-A081-ABE6DF338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B9FE82-D401-4960-B1EA-7D8A71F37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409D62-9095-4E1F-953C-FC09790F0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305EC1-64EA-4170-BA6C-01CEBA562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CCC2FF-A52E-482B-81C0-9BFB7EF8C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69DCF8-5C27-41BF-8E80-C1A16A522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C827-243F-472E-AD44-EA436A575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E65BCE-FD1E-481F-8C05-16E06A3B0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027322-B839-49C7-A2EC-B6930093B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27EA47-D202-4D7F-B425-32E0FEAD1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E006AD-2050-4D74-9FE7-3C9BD7645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2AD43E-D8CF-4C4D-B745-30AECA36A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4318E4-8827-4327-A61A-F002E4BB2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50BB3F-2458-4A55-AF80-67BF1F4B3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982DD98-D5F8-49A9-9DD8-59565270B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38A76A8-A488-47EE-AD2C-FE980ACDD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9D0A977-F885-43DD-A577-7011A888D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DFFA-EAA4-42B8-A6ED-B833B9272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F8E84A0-DBB6-460B-9DEF-D6E6D24E2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6D0602B-F66E-4637-ADB2-9356A5C1B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1681841-939C-4D6C-92A8-4C8C98D74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B868BEB-67A5-4976-84C4-DCE93C053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0E93BCB-EC62-49B6-91D9-2B3500D61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85C3443-61C0-476A-BB12-6FE128E36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2AFCAB5-5590-45BC-8D12-8AAE4B762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E953DEC-5B72-47DF-8F09-18A001444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04AE231-C2F8-4065-8792-DA74C2DC6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BF60B2-C01B-472A-BB86-707F0CC80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9D70-4F6B-4606-B808-285B78EF5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71C8F3-009D-45C1-B627-79B0BA021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C5CA52-22BC-400A-B4EE-1FE617D1E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E52601-C280-4B71-8E80-80BA96965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038B9C-C2F9-479F-83B1-101661A46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DE880B-F0F0-417C-94A9-166A8E4B8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708414-2D0C-4B48-BDC5-35ABCD22A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86E034-4E24-47FD-BE0E-66264F21C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4848E1-7B17-496E-B19C-D2FEBEC89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E1F42D-6973-4EA2-B1CD-52DE540E6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B7F8AB-9097-4CB1-9CA9-04EF1EE9A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6E34-67A4-45ED-A327-DC37CC79F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C34AFD-0453-4C9B-ADE5-D7E6B335C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42085C-14DE-4D15-8F61-7A63221D2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1715F6-C373-4EA7-9703-C4B3BC47C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51CFF3-D2AF-4ED3-8D70-FF439A2C9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E1FD2A-F9BB-4B19-8431-8052FCA23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05DDE9-29B6-4260-8FC2-36924365B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06B954-44AD-4CDC-AB3B-C1B7A8CF3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C0DA4F-BECB-48A3-BFC1-230851CC3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D0DEB1-7648-497D-B578-6A9ED67D5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6CDAFC-AB2F-4005-9B9E-CC366C537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8846-E9F2-47F7-AE38-8FDB6F767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EF1769-CDC2-4597-85E7-B2C8CD660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B59392-A52C-4E7C-9A3A-CDC6ACD84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D80EF1-9907-4A9D-8595-929A0DA85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476A7F-5ECC-42D5-9F7C-E9384EE64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844234-413A-4146-85BC-FE0DB7DAA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05EEB1-C222-4EBB-BA6D-A2DA8F474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771A9F-D5D9-48D0-9F0E-90C2539AB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84618C-F845-4699-851E-D33DAEFC5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2809E8-308A-4227-900A-43350CE08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34FF56-9A33-4E7E-BD61-F76965F00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2440-4DD6-47C5-BC2B-739940AC2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E83C1B-4DA1-44E7-BA1F-20283A5D5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EFD29D-84CE-49FB-9784-CC9CE8D78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0B11FA-E5A4-4F2D-930A-9716FF2D0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0DB3C0-316D-427A-BD4D-D18BADC2C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04B3DF-9332-46C9-9E70-76A6945B8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B550392-4F73-4730-9271-79A2C0897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A1E3E77-3CD7-4FB5-9A75-9475FB4D3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22E3692-D959-4388-B1A8-EE5ECDC2F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66B095B-71CC-4F2E-9543-495486F0F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A198D18-AAB0-4905-97F8-DBF3F37D8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6172-2F08-4E7B-AE66-6E6FCDF6B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5515A1D-AF59-42BA-84AA-47F595417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2143690-027E-4808-851E-FF7354D2D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F8737BB-06A1-4DAC-82F4-DF03147FE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0A73E56-09A7-4194-8A0B-5F2EE6A0F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338CE73-C471-442E-A5F5-4DF3CBA2D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7A62179-095E-43E0-B2D5-85E615F2C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7200A57-E31D-4C0A-BB26-96F01D5B1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54CE02B-8027-4B10-A32F-A2F21E610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9DC1FC9-E81D-4591-B134-C5A1E08E9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F5A1675-0172-4422-AB4D-3CFCA553E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CD257-A28C-473A-ACA0-46F759BD84BA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대각선 방향의 모서리가 둥근 사각형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대각선 방향의 모서리가 둥근 사각형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1756C-ACC3-4760-9484-ECD21AB8E8A5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91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B82CD-3BA7-4A76-8A1B-7C7BDFAC5565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직사각형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1FB52-6079-4710-9A56-B8E6257883F0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178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12F8C-868E-4AE1-8E15-317694CAA4E3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223" name="직사각형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4" name="직사각형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A543C-A156-40A9-B279-ED28B7515ED8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269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87172-A5B7-4239-A005-AEA6D3F45203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직사각형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3F457-C106-4E2E-9653-7044C0C40A16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5ED06-C582-41A9-9BA8-4E2A52D3BF5C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Rectangle 2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418600" cy="22320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조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김효나 김규빈 정나훈 신동현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제목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428760" y="357120"/>
            <a:ext cx="82296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우리 나라의 목재공업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부터 공업발전과 수출증대를 위한 전략산업으로 육성되어 지속적인 발전을 이룩해 왔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의 산업동향은 주요 원자재인 원목의 확보와 건축경기에 따라 크게 좌우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최근 자원보유국의 자원보호 및 공업화 정책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석유에너지에 대한 대체 자원으로서 목재의 재평가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자원의 지역 편재 등으로 인하여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목재수요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95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％ 이상을 외재에 의존하고 있는 우리 나라로서는 앞으로 지속적이고 안정적인 목재 수급이 중요한 과제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목재공업의 대표적인 산업으로 여겨지던 합판공업이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이후 지속적으로 쇠퇴하면서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은 보드류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가구나 악기 등의 제조업과 함께 목제품의 종합적인 수요처인 목조주택의 비중이 증가하고 있는 실정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324000" y="47592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이전의 우리 나라 목재공업은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1909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년 통감부 영림서에 의하여 관영제재사업으로 시작되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당시의 관영제재사업은 신의주 영림서의 경영하에 주로 군수용을 비롯한 연초포장상자 또는 침목 등의 공급을 맡았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이전의 목재공업은 오늘날의 기준으로 보면 대체로 원시적인 제재형태를 벗어나지 못한 소규모의 수공업형태를 이루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후 무질서한 산림남벌로 인한 원목공급량의 격증과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25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전쟁 이후 주택을 비롯한 각종 산재 복구사업 및 인구증가에 힘입어 제재업이 급속히 성장하여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1960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년대 초까지 목재공업이 주류를 이루어 왔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합판은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5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 동명목재와 일부 영세업체에 의하여 생산되기 시작하였으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1958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 이후 국내 건축경기의 상승 및 수출수요증가에 힘입어 생산능력도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5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의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8,00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만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에서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6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에는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5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억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로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5.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배 증가하였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6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부터 합판공업은 수출특화산업으로 지정되어 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7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까지 생산과 수출에 있어서 연평균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％ 이상의 급속한 신장세를 보였으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197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까지 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위의 합판수출국으로 성장하였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그러나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대에 들어 합판공업은 원가상승과 인도네시아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말레이시아 등 동남아의 후발 합판생산국들이 저렴한 가격을 바탕으로 세계합판시장에 본격적으로 진출함으로써 수출의 대부분을 가공도가 낮은 보통합판에 의존하고 있는 국산합판의 수출이 급격히 감소하게 되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목재산업구조의 변화는 양질의 원목가격 상승 및 해외 적정 원목 확보의 어려움과 해외 산림자원국의 원목생산 및 수출 금지와 자국 생산 목가공재의 수출전략화 정책 등으로 국내 목재산업은 수출에서 내수용 생산으로 전환되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95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현재 우리 나라 목재공업 관련 업체수는 국내 목제품 제조업체의 수출경쟁력을 상실한 상태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이들 목재산업이 안고 있는 문제점을 요약해 보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원목의 높은 해외의존도 및 원목확보난의 심화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원목 산지국의 합판수출국화에 따른 국제경제력 약화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수출시장의 협소 및 편중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낮은 외화가득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업계의 재무구조 취약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후반부터 통나무집과 경골 목조주택이 보급되기 시작하면서 목조주택을 비롯한 목조건축산업은 목제품의 대량 공급처로서 가능성이 매우 높아 국민의 관심을 끌고 있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초부터 전성기를 맞아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까지 국민경제에 크게 기여해왔던 목재공업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9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에 들어 상당히 위축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특히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공업은 소요 원목을 전량 수입에 의존하는 구조적인 취약점을 가지고 있어  문제가 심각하였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원목의 높은 해외의존도 및 원목확보난의 심화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원목 산지국의 합판수출국화에 따른 국제경제력 약화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수출시장의 협소 및 편중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낮은 외화가득률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업계의 재무구조 취약 등을 들 수 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이러한 문제점을 해결하지 못한다면 결국 목재산업의 사양화는 불가피할 것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Rectangle 2" descr=""/>
          <p:cNvPicPr/>
          <p:nvPr/>
        </p:nvPicPr>
        <p:blipFill>
          <a:blip r:embed="rId1"/>
          <a:stretch/>
        </p:blipFill>
        <p:spPr>
          <a:xfrm>
            <a:off x="450720" y="-85680"/>
            <a:ext cx="8455320" cy="78732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35712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첫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정부와 업계가 공동으로 해외임지확보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산림개발을 위한 조사 및 외교를 강화하여야 할 것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둘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제재의 수율증대를 위한 기술개발 및 국산 소경목을 이용한 목재제품 개발과 고급가공합판 중심으로의 생산체제 전환 등이 시급히 요청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셋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생산시설을 합리적으로 조정하여 과당경쟁을 배제함으로써 생산협력체제를 구축하고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가구산업 등에서 다품종 소량생산 체계를 갖추어 경쟁력을 확보하는 것이 필요하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넷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장기적인 목재자급기반의 구축을 위하여 국내산림자원의 효율적 경영 및 국산재의 고부가가치 이용기술 개발이 요구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우리 나라에서 산림녹화를 통하여 조성된 조림지에서 생산되는 간벌재를 비롯한 중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소경제의 생산잠재력이 증가하고 있고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최근 진행되고 있는 생명의 숲가꾸기 사업 등의 본격적인 추진과 관련하여 국산재의 자급률이 차츰 높아질 것으로 기대되고 있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Rectangle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455320" cy="143352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우리나라의 토지 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65%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가 산림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하지만 목재 자급률은 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미만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국산재의 지속적 지급이 필요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최근 환경에 대한 관심의 증가 및 탄소 배출권 등으로 목재산업과 산림업이 새롭게 관심을 받고 있다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산림청을 비롯한 산림조합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목재업계 관계자들이 최근 ‘목재의 지속 가능한 이용에 관한 법률안’을 대표 발의한 황영철 의원을 방문해 목재산업 진흥을 위한 발전방안을 논의했다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 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이 자리에서 ‘목재의 지속가능한 이용에 관한 법률’이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목재산업 발전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에 초석이 될 것이라며 목조건축을 포함한 목재산업은 다른 분야에 비해 고용창출 효과가 크며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국산 목재를 이용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할 경우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탄소배출권을 확보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하는 등 전망이 밝은 분야임을 강조했다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제목 1" descr=""/>
          <p:cNvPicPr/>
          <p:nvPr/>
        </p:nvPicPr>
        <p:blipFill>
          <a:blip r:embed="rId1"/>
          <a:stretch/>
        </p:blipFill>
        <p:spPr>
          <a:xfrm>
            <a:off x="450720" y="-96840"/>
            <a:ext cx="8491680" cy="15048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열악한 국내 목재산업을 획기적으로 키우기 위해 산림청은 지난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1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월 국산목재 이용확대와 목재산업기반 구축 등을 골자로 하는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목재산업진흥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5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개년 종합계획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을 발표했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이 계획은 </a:t>
            </a:r>
            <a:r>
              <a:rPr b="0" lang="ko-KR" sz="4000" spc="-1" strike="noStrike">
                <a:solidFill>
                  <a:srgbClr val="00b0f0"/>
                </a:solidFill>
                <a:latin typeface="Rockwell"/>
              </a:rPr>
              <a:t>우리 정부가 사실상 최초로 마련한 목재산업 관련 마스터플랜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이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Rectangle 8" descr=""/>
          <p:cNvPicPr/>
          <p:nvPr/>
        </p:nvPicPr>
        <p:blipFill>
          <a:blip r:embed="rId1"/>
          <a:stretch/>
        </p:blipFill>
        <p:spPr>
          <a:xfrm>
            <a:off x="450720" y="-12600"/>
            <a:ext cx="8455320" cy="78732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457200" y="76500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제안이유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기후변화 협약 이행을 위한 </a:t>
            </a:r>
            <a:r>
              <a:rPr b="0" lang="ko-KR" sz="2800" spc="-1" strike="noStrike">
                <a:solidFill>
                  <a:srgbClr val="00b0f0"/>
                </a:solidFill>
                <a:latin typeface="Rockwell"/>
              </a:rPr>
              <a:t>탄소저감 방안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의 하나로 목재이용을 증진하고 국제적인 목재자원 보호정책에 대응하기 위해 국산재의 지속적인 공급확대가 절실히 요구되고 있음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현행법은 일부에서 품질관리 및 인증제도를 시행할 수 있도록 규정하고 있을 뿐 목재이용에 대한 인식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다음 세대를 위한 전통 목재문화 계승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교육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품질향상을 통한 산업경쟁력 강화 등 목재이용 전반에 관한 적극적 홍보 및 체계적인 지원 기반이 부족한 실정임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이에 정확한 목재이용 실태조사를 통하여 </a:t>
            </a:r>
            <a:r>
              <a:rPr b="0" lang="ko-KR" sz="2800" spc="-1" strike="noStrike">
                <a:solidFill>
                  <a:srgbClr val="00b0f0"/>
                </a:solidFill>
                <a:latin typeface="Rockwell"/>
              </a:rPr>
              <a:t>목재문화 진흥 및 목재이용 활성화 사업을 체계적으로 지원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함으로써 국민의 삶의 질 향상에 기여하고 목재의 지속가능한 이용을 도모하려는 것임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455320" cy="79236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500040" y="1314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산업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'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우리에겐 비중 있게 와닿지 않는 산업분야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한국전쟁을 겪으며 벌거숭이가 됐던 산야를 녹화하기 위해 뒤도 돌아보지 않고 달려만 왔을 뿐 나무를 본격적으로 활용하는데 대한 고민이 적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따라서 국내 목재산업의 기반은 아직까지 미미한 수준에 머물고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하지만 최근 목재생산국들의 원목수출금지 조치 등 목재자원주권화 경향과 지구온난화 등으로 목재의 경제적 중요성이 높아지면서 국내 목재산업 인프라를 키워야 한다는 목소리가 높아지고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정부도 국내 산림자원량이 성숙단계에 왔다고 판단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산업 활성화를 통해 기후변화 및 자유무역협정 등에 적극 대처해 나간다는 방침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Rectangle 2" descr=""/>
          <p:cNvPicPr/>
          <p:nvPr/>
        </p:nvPicPr>
        <p:blipFill>
          <a:blip r:embed="rId1"/>
          <a:stretch/>
        </p:blipFill>
        <p:spPr>
          <a:xfrm>
            <a:off x="450720" y="-66600"/>
            <a:ext cx="8541000" cy="98748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457200" y="907560"/>
            <a:ext cx="829152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우리나라는 지난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~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목재산업의 비중이 상대적으로 컸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당시에는 정부 차원에서 수출장려와 고용창출을 위해 목재 가공무역을 활성화하면서 수출 효자상품으로 각광받기도 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그러나 제조업 전반이 발전하지 못한 시절이어서 목재산업이 경제에서 차지하는 비중만 컸을 뿐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이마저도 이후 개발도상국들의 원목수출 금지정책과 건설경기불황 및 수입목재가격 상승이 맞물리면서 국내 목재산업은 침체기로 접어들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기에 숲가꾸기와 조림 등 산림보호와 육성에 초점이 맞춰진 산림정책도 목재산업 경쟁력 약화의 원인이 됐다는 분석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산림청에 따르면 국내에서는 목재가공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제지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가구 등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3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개 부문으로 분류되는 목재 산업계에는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009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현재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300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개 관련업체가 있으며 종사자는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8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만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00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명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연간 생산액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4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조원 규모로 국내 제조업 전체 생산액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(1122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조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98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억원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)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.1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그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전체 목제품에 사용되는 국산 원목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01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말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3.5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머물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특히 국산 목제품의 양은 국내 전체 목재 수요량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6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불과하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Rectangle 2" descr=""/>
          <p:cNvPicPr/>
          <p:nvPr/>
        </p:nvPicPr>
        <p:blipFill>
          <a:blip r:embed="rId1"/>
          <a:stretch/>
        </p:blipFill>
        <p:spPr>
          <a:xfrm>
            <a:off x="390600" y="182520"/>
            <a:ext cx="8540640" cy="11653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456840" y="1483920"/>
            <a:ext cx="84358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상업용으로 쓰이는 목재는 그 목적에 따라서 여러 가지로 분류할 수 있는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일반적으로 목재에는 통나무와 제재목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製材木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이 포함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ffff"/>
                </a:solidFill>
                <a:uFillTx/>
                <a:latin typeface="Rockwell"/>
              </a:rPr>
              <a:t>목재의 종류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를 형상에 따라 분류하면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① 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소재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：보통 통나무라고 부르는 것의 총칭으로 아무런 가공을 하지 않거나 거칠게 가공한 목재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② 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제재목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：통나무 등 원목에 톱을 대어 가공한 것으로 크게 판재류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각재류의 두 종류로 구분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③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합판과 단판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섬유판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파티클보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＊</a:t>
            </a:r>
            <a:r>
              <a:rPr b="1" lang="en-US" sz="2800" spc="-1" strike="noStrike">
                <a:solidFill>
                  <a:srgbClr val="ffffff"/>
                </a:solidFill>
                <a:latin typeface="Rockwell"/>
              </a:rPr>
              <a:t>OSB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공학목재 등이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는 지구상 유일한 재생산 가능한 천연재료로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인류가 살아가는 거의 모든 용도에 널리 이용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오랫동안 한옥형태의 목조주택을 위주로 한 주거문화로 발전하여 왔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.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395280" y="691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는 다른 재료에서 볼 수 없는 우수한 재료적 특성 때문에 여전히 우리 생활의 많은 부분에서 필수 재료로서 쓰이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오늘날 목재의 대표적인 용도를 살펴보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건축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가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포장상자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차량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갱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침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전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악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운동기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집성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연료 등에 이르기까지 매우 다양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를 활용하여 최근에 개발한 첨단 재료는 이전까지 사용되던 재료와는 판이한 새로운 개념의 재료가 사용되고 있거나 개발되고 있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의 부가가치를 높이는 데 기여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와 관련한 산업활동은 넓은 의미에서 소재생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 및 임산제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유통 등을 포함한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노동집약적이고 수송비와 보관비 등이 큰 특징을 가지고 있으며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나 보드류 산업 등의 경우 초기 투자비용이 큰 장치산업적 특징을 가지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은 제재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제품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 등 보드류 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기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종이 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조주택 등의 산업활동을 총칭하는 것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8T09:10:03Z</dcterms:created>
  <dc:creator>admin</dc:creator>
  <dc:description/>
  <dc:language>en-US</dc:language>
  <cp:lastModifiedBy>com</cp:lastModifiedBy>
  <dcterms:modified xsi:type="dcterms:W3CDTF">2012-05-22T03:36:57Z</dcterms:modified>
  <cp:revision>24</cp:revision>
  <dc:subject/>
  <dc:title>환경재료학 목재산업</dc:title>
</cp:coreProperties>
</file>