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33172-5A71-4A3C-85B7-FC776174F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C702C-1E63-46E7-B141-DE1B8F602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72A6C-D129-45B2-BDAE-4D2A82B9C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E2444-83E9-4949-B837-041A7425B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99342-FD4D-45D7-9217-CB2FF1576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86C38-5228-4E8D-9A53-C84CD5364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F5D5A-FDD1-4265-BF3A-548CFC4E7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729D7-D9B1-4C04-BED0-20263CF90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C3D45-4005-4757-85D3-2856F23AB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9E1DB-98E1-4598-9B55-2EFA60FD2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F8B00-486E-4232-BBD7-283CBA8E4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FEB33-CEDD-4039-9D0C-E18B8442E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70E59-F3F5-43C4-8ACD-458DADF475EF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46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대학교병원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80520" y="4436640"/>
            <a:ext cx="8533080" cy="186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생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김은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혜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기간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8.12.29 ~ 09.02.20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교 통 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치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광역시 서구 구덕로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5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하철 이용시 편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 지하철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선 토성동역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번 출구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 내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화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머리망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블라우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카라있는 면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초기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퇴근시 정장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후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편안한 복장으로 출퇴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말 휴무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5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+</a:t>
            </a:r>
            <a:r>
              <a:rPr b="1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α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원 식당에서 해결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권구입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,5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물리치료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장님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실장님 외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5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8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SOAP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노트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주일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씩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첫 주 제외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약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에 한번 걷어서 검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과제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논문 번역 발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실습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8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실습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을 접할 수 있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직접 환자를  다룰 수 있는 기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밥이 비싸고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이 좁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Windows XP</cp:lastModifiedBy>
  <dcterms:modified xsi:type="dcterms:W3CDTF">2009-04-09T08:11:46Z</dcterms:modified>
  <cp:revision>12</cp:revision>
  <dc:subject/>
  <dc:title>영남대학교의료원</dc:title>
</cp:coreProperties>
</file>